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4A7A-6437-4449-BCB3-696B63FC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F20A-ECDD-451E-86A4-4FFDC4E12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473F5-E6BE-4EBF-8409-3FF3EAEE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6D29BE-7649-4238-A3C9-8456471DA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7FC36D-95D8-4FF6-B66C-687B0CA39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22809-7F25-40D7-8949-90C873D57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7D7C5-6C9E-4B64-A669-9154392B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04A22C-C9CE-4385-8451-4437416F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E5158B-9647-451D-BBD3-7593D6EFD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71A95F-E4E7-4F10-AC7D-7C7FE81DC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CAECAD-F070-4B3A-A079-C3CEB0AAE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3804D4-5C68-42BA-931F-734CA8AEA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F3A9-D280-4F89-90F2-A334053A3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AE673-075F-4D26-B20D-9F1CFFB7B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F1960-0B60-4B6E-9A8A-7080F5CE6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0E83CE-AAAC-49DA-A600-974A12108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8806D4-2C3F-4B53-AF95-CF11050CE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AB8817-27AA-4C0A-AC85-C5A016EC7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4F4093-E615-4EE1-86A8-15D09C92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17C9B-4073-4346-BABD-D36636C0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4E2CC9-4519-4D48-8634-542897C38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A40B2-EEB4-445E-AD56-C6D1493BA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48DC8-7941-45F7-9F40-A2121AF1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035F-61CE-4B37-936A-1F3B83D3E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2EFB3-342A-49D4-8ACD-D131FAD77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520D5-7A42-4F22-8399-8C6D6051B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23D10C-F182-4620-9D77-3DC950B55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89D445-A18D-4F67-BDB2-89E468376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23CBC-4663-48B7-B2D0-5951E49A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C63A17-B381-474A-B47D-11FF70C84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20CC5A-25BF-43D5-8879-3FACACB45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969ED3-7CC8-4837-A8BB-E0BF5D87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C54CB8-646B-4A2C-BB74-ACA97DCE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46B16F-1521-44FE-9293-22C96DB7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CBEB5-8D7E-4669-89ED-53769AFB4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DC2C2-ECC8-49EF-B124-313E95BC2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7D517D-57BC-4817-AA52-0ADD06371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889F32-CA06-4254-A3DB-0FC9DBD54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931B9F-8EB7-4DD6-AF3F-20593ED4A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E7DDA0-283C-4904-9EE2-6A01B0B82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C8A37-E038-450F-A59F-36987B9B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C00849-0467-4838-ADE5-026728EF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DAB5F8-BD5D-481C-B305-F849D835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87ECAF-6CDE-4F24-8873-474D8BCE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63640A-BC9D-40F5-BF0B-C1D8845D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D7F55-0CFD-4CEA-AB36-DF547A613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CBA605-9C95-48C5-ABB7-605CC55F4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A3B577-3C91-4EFB-98F5-97D6DBF9C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982F0-AC5B-43C5-8154-7A39CA6B1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C49454-FC2D-4B08-8D2A-5B9E46EA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A7663A-5069-49CD-87FE-ECAB85E4C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99C582-C299-4F81-BFF0-D08E2CC92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A6CDF0-633F-4369-AC40-179C8894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964FFB-70D2-4FB6-A6FC-39E584B2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FCBB61-F6B6-4E89-A7A9-0B434F89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F686A-75F1-4F0A-8CDE-04D41641D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41BA3-0C0F-49D0-A9BD-87E72783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22C600-FC7F-4291-AC0A-62F885469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7C0571-AA4F-409E-BDA5-A6481A849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A06B0-BE0B-44D4-B219-A6260EC88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56234-69DE-4072-905B-D9485DD0C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F1014-6AB5-4A9C-9BA0-35B1FF6E6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9FD850-22B9-4A39-A826-77B53755B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8F34EC-58C1-4068-B196-7EC1E7334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5D6D6A-1F55-4D74-B09F-F5CE98362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956FA4-763F-4C1D-8FA2-9A8D7EF3A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19B77-E825-49A3-9DED-40C7CBEF3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12AAB-167B-46E7-854C-8FFA16927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79D4DC-804D-49E3-99B1-BFE14DA04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ECFA6-6F8F-45C0-A4AE-56F4F71C1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647FF1-5D56-43E2-9A6F-D039FCB1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78C4CD-200C-46EE-B6BC-A6763616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585833D-DE04-433F-85B8-ADA86AAC1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87C07-1A4B-4B1D-A8C9-3363B799E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A0FA3B1-344E-415D-9192-1768370A0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99AF1D-6ECD-40C6-8218-0BEEE325E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FEF6DA-D02E-425E-8059-06AA11E44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1D19C0-13A5-41C3-BF65-BA043592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107B-300B-4EC0-B96C-32656BC0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783726-3425-48E9-A31C-A0007C2FA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6A6EBB-111D-4860-BF38-8D106B31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9F2E23-FC28-43A2-817E-507A22341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49DF7B-B031-4FAD-A0BD-F2E1EC39A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8E1E62-A290-487E-9DBB-30F7DDF53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1ED0E8A-01E5-4999-B521-EF2805AC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EB61FC-C5E4-4FAA-8597-F995AE36A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DB68E6-7B2A-4075-8C87-C6FD8F0E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8225FA-5BCB-44B0-8598-8EA16E733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01BC482-E0DC-4236-B1B2-FCEADDD7A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AB81D-C49A-4E69-9FC4-3FF436A77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9C0B9-769B-4981-B958-49675AE3E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7C4756-7185-44FA-B0B5-6C9379C7D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F278E68-629B-48EA-A5C4-F7F207FE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66E8F3-41B3-41E1-BAA6-1C2F1D0AE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1E87A-E13D-40AB-BB5D-530ABAAE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DBCD1C-7455-494F-AE50-392159EA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D3D894-56A5-4152-B53E-202CFE536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C2CE2C-3726-4FDE-B001-65C377A9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4003F7-8D79-493E-B59F-A32C646A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FC6487F-221C-4FCD-ADE4-3E5D0B264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E8FB4-0A0D-4F45-BFA7-A0D1E127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E43F8B-4D50-4820-A135-4D57A10B5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8FE67C-682D-4932-847B-DDB545E5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C5A15C-F353-449F-AC2A-2A5293A38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B773AC9-4FA0-4853-9661-DE8B28131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427AF7-538D-420C-BD5F-4A779ECC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867C2-ED94-4436-80F4-27F4C3F2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10B72-2105-4939-A1D4-213D0B6E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1253B9-0E9C-4FD5-86C6-00E80C4FF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AF4FB7-8F45-4A4E-AE85-B99C749D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EA9BD21-34B2-41B0-ABD0-53E75860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F106-4983-4D90-9925-92B78F54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2798F-9B00-44C5-BD0D-832B88B46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6448AB-B206-4F11-B1B7-3BDC0106D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CADAA-3008-4B35-8093-D5CCDCC57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54D609-261D-4D8E-A771-DC6E9CAB0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90291D-80C7-44F9-96F4-8845B4F17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DA63A5-BFB1-4A36-938C-DF0C72722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8546C6-0D98-4F6D-9378-A9B18C02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A489AB6-12CF-495B-9704-098A69A1A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B29652-A0CF-41AF-A00B-D5B4FF6C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DE720-18C3-4034-A46F-9CB7E5FFD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019E2-727F-4E33-ACA2-FBA2103AD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E51F2-2A29-4EAA-ADD0-473D0B5E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301B351-5A66-4F2D-ADAB-ECFA9BAB0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DC77E3-F00C-4BC5-8DF6-59A518C7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705454-DA64-4EF4-8C23-90BB8A31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9224F10-1D44-4D0B-8023-FA4EE7A1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69011B-76FE-4A76-B28C-BCEE786E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A7ED4-EA73-47D5-8F99-9CCF35F5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400947-C098-41DD-806F-D015201BF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5B36C8-531F-49EA-87A1-93060BFB3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B81E04-FC37-463C-B51D-D7511BC6A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025345-526A-4FA0-8CD6-9B002712B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C771-2739-4DF7-87DD-585C7EBA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4313D4-5852-4785-A80C-40B8DA08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9BBD2B-C31D-4565-8CE1-24A30CEE0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5871C4-ACFA-460C-A38F-4367EAA1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4B93DA-8564-400C-AA14-B72C97AEE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C62289-0FE0-480A-8FDE-6EDB8CBB1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2D312-2672-408A-92D0-3EF7E090D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7631BF-8821-40F8-96FD-B182CA821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7D7017-1DA7-4F55-890B-A492A0B75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DAA04A-66BD-47EB-AFAA-6647E0924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62E6D7-5B3D-4525-8C0D-7D0E28DA3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88D12-AFDB-4270-B8EA-0AC0C48EF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3C3158-6CB9-4476-ADB8-8239F1821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321DFA-CAB0-4EB5-ACB7-0235345E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1D805A-2235-4FD7-8023-D9C2D86E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6CFB85-9F04-4E73-ADBC-79181AC4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EAA500-1FA8-41ED-AB9C-1103C427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5F07EB-B8A0-484E-B7C7-E1ACB4E1C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7A1B3C-569B-48F7-B4E8-DF130E80E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5AAAE2-FEF5-409A-AAB8-8975DB1D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C5E47A-31C0-441D-B337-38B4F468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68472F-276D-48E5-9F3B-F7563D0D5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4F42F-2D1D-4192-BA95-BCE14FB98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27E918-6289-49F1-B701-72888C949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C2B166-AE5D-46EA-BC17-6D1C6650D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811A66-A02D-47D5-931D-FCFC576A6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2AEC24-78C0-4F08-980E-05C8B0654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53A7FD-1796-41F2-B1A5-BADD9E07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9F362E-4B96-4F2D-BD5D-F26640AEF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3D11144-DE21-45B6-ABFE-E9A803C25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2F0B09-AC16-4B18-80F8-88F711A5D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574474-3B91-4E0B-8B30-6BC52E670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B36E4E9-F7C6-44B7-A969-3F11933C3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E9CDC-4722-44AA-A61D-3D48F08F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5467EE4-7CB3-4C14-ACFB-BF59575EB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695F243-C605-4D41-87EE-C437E9D39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846C75-4121-459A-98FC-150A89E7B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DBB0F-CBC2-4A9D-B177-C0AF36CD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0B60F-468B-4BFE-9C48-00D59FA5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C68E2-3317-47D4-8A27-74FC97DB7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6DD3A-BA72-4C6E-807A-18D77073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BA8-71F9-4415-8734-6CA6F9682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75BE9-4F6E-4174-98A9-8E9E6AFA6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BE5444-0654-4630-91C1-30038507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0A5F-48B8-43F0-9B3A-8D556BA25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054AF8-9386-4F26-898C-C793DE806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CFB30F-8E94-4533-885A-1C2529384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5AF4F-45D2-4F1B-AB27-114268592D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53FEBB-3753-4A78-AB80-55B8AF08F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DF3BC-9634-459C-8070-0E1766DCF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E36D9C-DDD2-4544-B87F-6A1BBC6D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ABBEA-E323-4DAB-9BE7-173D78130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22D70-5C66-4987-ABBC-38B58B8CD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8096-3F00-4B8F-B1EA-8B21E77C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E72466-34DF-4B6B-818A-B2A61FEC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6630F8-C174-4F85-9EC7-BA2D81C7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703864-17AD-4F11-A1AF-A8D3A4CA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9DB7F3-7D26-49CC-8E29-60AA945E1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70370A-F775-444B-9BAE-2B9950E82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92FFE-E78B-43B5-9738-10424CE8C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79D60D-3525-48E8-9988-A6E4005F7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865F0-6595-4C80-9358-FE4A0DD2F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ACA6AC-63D0-40BF-8930-EA603EB82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4407-149D-48ED-8902-8AF31EC9C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E56ECD-B8E1-44CE-8568-203B4709E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91382-83CD-4344-9B0D-BBDD05F33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3454-B810-43DB-9AA5-40ED4BBF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B5F628-F7FC-4779-B650-773A5F93E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AA342F-7FCF-4205-BCD5-180277CE3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551B8-CECE-47FD-89AC-70A1B6527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EEB59-F057-43C8-9B61-82C1FD9C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204710-2B12-4B2D-BFB2-083B1FD83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DF16CC-5AE6-451E-BDFD-A878D5B0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375F41-C72A-43B0-AE02-4C87A7BC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4923-9173-4A38-BA75-870A24EC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77B5C4-09EA-4B8D-AE14-5DDCF89A8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5435D2-4117-4EA3-9974-473FB4289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80C60-2193-4892-B46E-DA8A2D04C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9A93B5-9E4C-4D96-825C-22538417C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43A15-393A-44B6-9741-CE392FBE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63228-DDC0-4587-9937-D9A68C451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C7BA62-3363-43A5-B46E-05DF92773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AB219-A3E9-4259-81DD-77E4FB54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ABCCD-26CC-46D3-9646-3F1DFE9B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0A46D9-0E74-4602-A81B-A6A1E16D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665D-AFD9-4B62-B0E4-CC8EBC89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7B6BF-9745-4B42-B2D8-B7C1BE33C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3082E9-C9DE-406F-8118-8A46748910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36315-C4F2-42D0-8A84-0D98F018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C32BF-F2FF-4493-82AA-03B1556F0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13818-B798-4ECD-AE96-D2A66443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F9B3B-8D0E-41E6-AFE0-6BF48E73B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F3863-FA4C-4BBA-AD9F-6DEB6E70F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BDF959-257F-4F38-AFE7-89AA4DA4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9966C-7CBF-4A05-95DE-E0FFDD6CC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90BEA-4F14-4F1E-A110-90C8C1803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E65B-D842-421F-9F15-1BE43C56D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F2250F-D5BD-4DA3-A64D-5980D1A8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82BBD-3455-48E6-9774-7474A63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0CEF34-292E-4681-A464-EC9579C7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9C2BEF-43B9-4EBB-97FB-BE9E43DE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36F22-D620-4E65-909B-BFF43C563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212709-968A-4944-96A2-42F5FC010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847827-2C3B-4C42-B70F-C69EBBE1E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1C965-F140-400A-88A6-40A27517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9117C9-E985-48D3-AD16-A5EEA15D1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6BA8D-D092-426B-BFA6-DAAF71E50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FDC5-09E8-4379-80BA-2974F7A36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52B16-19FC-414B-9BBD-AE7EB55D3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B21CD8-9674-405A-8AB0-6885542F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03B5EA-A156-432B-BE8B-A347CF183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667F2D-E9E4-4247-9D75-1D457793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4B3CA5-74E2-4FAA-AAA9-DFADD9A54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B0A75E-06EE-46AA-A02C-6F6DE0CA2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77221A-8251-4936-B684-999EA6BC7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1882CC-0F78-43D4-8CAE-92A9FDA86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EF5E54-D08B-4F68-AA23-18C84CD7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6E592-4BA1-4F1D-878F-5CA1D6D36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A509E-2CDF-44DB-8F6E-0D066B951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B2D8-5F64-44D5-A169-036364D36E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77D4-396D-4ED4-A2C0-6A5CB00162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C474E-56B2-42BB-A2AA-513EA5FD61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73D39-8E02-4233-87DA-AC4A1EF3C72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A11A-459C-466B-84BA-A655D2715A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8C5F9-9FF4-45F6-937B-FA163F450C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310BC-2E5D-4CE4-9B6B-23FAA26934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09C60-CF67-4699-B00F-F363A0FE055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4C827-5496-4D91-A2B2-FEAF2487E9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791B9-A08C-4166-BA6C-6C01729550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558F-8757-4ADA-86F2-F4C9B33597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6468-B7A1-4A84-B001-FE11C01545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6279-1D14-4DA4-A045-568E7BE023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8C833-3209-492D-A0E3-4E7281804BA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26D35-01EE-4B43-9E9A-03466994C0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1D95-C2E8-429B-B0F3-F7A16E8E3B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D45F-8C11-4AB2-B1C4-478B9FF73AD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75B2-CA82-414E-882B-A134AA6D78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1F255-A9FC-48C7-8FDB-37C2555DA4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C3FD3-52D4-4900-ACA5-D8BBE603F4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3D05-38E4-4444-98FA-FAC69E655F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B33F2-CEC9-44B5-AC77-8BC4B64FA8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3750-EDCB-4B10-B8EE-569E7FC323A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89C33-E62A-41D4-A1CF-C6610B7B54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42A2B-9B37-4D29-B6C5-69A3154E0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2439-C302-42FB-9E3C-0E5D2C6E15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A894-DC48-4180-B889-9B2819B6E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7DA55-1469-4F98-9F9D-A0E0714ECE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40AA-BCC9-4A75-8723-B55EF691747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FE2F4-BEB9-4A61-8788-E043D638CAA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C482-CEA7-47C6-A33E-3F9EED3C61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8E8F0-6A86-4AD4-B282-605391E0E6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08AD0-4520-417E-A539-98CC23319D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A364D-AF3C-4194-915E-14A362715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B3060-9994-4CA3-AF65-1EA1A21741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A8B8-B9AF-4BC6-8A6C-445A2328C2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D48D0-4EF3-4E28-B678-903807B535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A08E2-199D-4748-9573-88F3D5F1E94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F1C08-1F50-4471-B4C0-9AE80FC960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71280" y="2567160"/>
            <a:ext cx="8999640" cy="172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95" name="图片 1" descr=""/>
          <p:cNvPicPr/>
          <p:nvPr/>
        </p:nvPicPr>
        <p:blipFill>
          <a:blip r:embed="rId1"/>
          <a:stretch/>
        </p:blipFill>
        <p:spPr>
          <a:xfrm>
            <a:off x="847800" y="2448000"/>
            <a:ext cx="7448400" cy="196200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1" descr=""/>
          <p:cNvPicPr/>
          <p:nvPr/>
        </p:nvPicPr>
        <p:blipFill>
          <a:blip r:embed="rId2"/>
          <a:stretch/>
        </p:blipFill>
        <p:spPr>
          <a:xfrm>
            <a:off x="1174680" y="2448000"/>
            <a:ext cx="447840" cy="36360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2" descr=""/>
          <p:cNvPicPr/>
          <p:nvPr/>
        </p:nvPicPr>
        <p:blipFill>
          <a:blip r:embed="rId3"/>
          <a:stretch/>
        </p:blipFill>
        <p:spPr>
          <a:xfrm>
            <a:off x="1069920" y="3497400"/>
            <a:ext cx="44784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7" dur="5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2" dur="5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0" name="图片 2" descr=""/>
          <p:cNvPicPr/>
          <p:nvPr/>
        </p:nvPicPr>
        <p:blipFill>
          <a:blip r:embed="rId1"/>
          <a:stretch/>
        </p:blipFill>
        <p:spPr>
          <a:xfrm>
            <a:off x="380880" y="1862280"/>
            <a:ext cx="8382240" cy="313344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1" descr=""/>
          <p:cNvPicPr/>
          <p:nvPr/>
        </p:nvPicPr>
        <p:blipFill>
          <a:blip r:embed="rId2"/>
          <a:stretch/>
        </p:blipFill>
        <p:spPr>
          <a:xfrm>
            <a:off x="1062000" y="2478240"/>
            <a:ext cx="446040" cy="36324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2" descr=""/>
          <p:cNvPicPr/>
          <p:nvPr/>
        </p:nvPicPr>
        <p:blipFill>
          <a:blip r:embed="rId3"/>
          <a:stretch/>
        </p:blipFill>
        <p:spPr>
          <a:xfrm>
            <a:off x="1062000" y="3043080"/>
            <a:ext cx="446040" cy="36360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3" descr=""/>
          <p:cNvPicPr/>
          <p:nvPr/>
        </p:nvPicPr>
        <p:blipFill>
          <a:blip r:embed="rId4"/>
          <a:stretch/>
        </p:blipFill>
        <p:spPr>
          <a:xfrm>
            <a:off x="1062000" y="3571920"/>
            <a:ext cx="446040" cy="365040"/>
          </a:xfrm>
          <a:prstGeom prst="rect">
            <a:avLst/>
          </a:prstGeom>
          <a:ln w="0">
            <a:noFill/>
          </a:ln>
        </p:spPr>
      </p:pic>
      <p:pic>
        <p:nvPicPr>
          <p:cNvPr id="1104" name="图片 4" descr=""/>
          <p:cNvPicPr/>
          <p:nvPr/>
        </p:nvPicPr>
        <p:blipFill>
          <a:blip r:embed="rId5"/>
          <a:stretch/>
        </p:blipFill>
        <p:spPr>
          <a:xfrm>
            <a:off x="1062000" y="4044960"/>
            <a:ext cx="446040" cy="363600"/>
          </a:xfrm>
          <a:prstGeom prst="rect">
            <a:avLst/>
          </a:prstGeom>
          <a:ln w="0">
            <a:noFill/>
          </a:ln>
        </p:spPr>
      </p:pic>
      <p:pic>
        <p:nvPicPr>
          <p:cNvPr id="1105" name="图片 5" descr=""/>
          <p:cNvPicPr/>
          <p:nvPr/>
        </p:nvPicPr>
        <p:blipFill>
          <a:blip r:embed="rId6"/>
          <a:stretch/>
        </p:blipFill>
        <p:spPr>
          <a:xfrm>
            <a:off x="1062000" y="4632480"/>
            <a:ext cx="446040" cy="36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39" dur="5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4" dur="5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49" dur="5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4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59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04760" y="1828800"/>
            <a:ext cx="893448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111" name="组合 18436"/>
          <p:cNvGrpSpPr/>
          <p:nvPr/>
        </p:nvGrpSpPr>
        <p:grpSpPr>
          <a:xfrm>
            <a:off x="276120" y="1600200"/>
            <a:ext cx="8591760" cy="3657600"/>
            <a:chOff x="276120" y="1600200"/>
            <a:chExt cx="8591760" cy="3657600"/>
          </a:xfrm>
        </p:grpSpPr>
        <p:pic>
          <p:nvPicPr>
            <p:cNvPr id="1112" name="图片 1" descr=""/>
            <p:cNvPicPr/>
            <p:nvPr/>
          </p:nvPicPr>
          <p:blipFill>
            <a:blip r:embed="rId1"/>
            <a:stretch/>
          </p:blipFill>
          <p:spPr>
            <a:xfrm>
              <a:off x="276120" y="1600200"/>
              <a:ext cx="8591760" cy="3657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3" name="图片 2" descr=""/>
            <p:cNvPicPr/>
            <p:nvPr/>
          </p:nvPicPr>
          <p:blipFill>
            <a:blip r:embed="rId2"/>
            <a:stretch/>
          </p:blipFill>
          <p:spPr>
            <a:xfrm>
              <a:off x="1042920" y="2031840"/>
              <a:ext cx="7489800" cy="2044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14" name="直接连接符 18437"/>
          <p:cNvSpPr/>
          <p:nvPr/>
        </p:nvSpPr>
        <p:spPr>
          <a:xfrm>
            <a:off x="1258920" y="2017800"/>
            <a:ext cx="3168720" cy="20588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直接连接符 18438"/>
          <p:cNvSpPr/>
          <p:nvPr/>
        </p:nvSpPr>
        <p:spPr>
          <a:xfrm>
            <a:off x="2987640" y="2031840"/>
            <a:ext cx="0" cy="20448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直接连接符 18439"/>
          <p:cNvSpPr/>
          <p:nvPr/>
        </p:nvSpPr>
        <p:spPr>
          <a:xfrm flipH="1">
            <a:off x="1332000" y="2046240"/>
            <a:ext cx="3456000" cy="20304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直接连接符 18440"/>
          <p:cNvSpPr/>
          <p:nvPr/>
        </p:nvSpPr>
        <p:spPr>
          <a:xfrm>
            <a:off x="6804000" y="2031840"/>
            <a:ext cx="1297080" cy="20448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直接连接符 18441"/>
          <p:cNvSpPr/>
          <p:nvPr/>
        </p:nvSpPr>
        <p:spPr>
          <a:xfrm flipH="1">
            <a:off x="6372360" y="2017800"/>
            <a:ext cx="1800000" cy="205884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pic>
        <p:nvPicPr>
          <p:cNvPr id="1028" name="图片 1" descr=""/>
          <p:cNvPicPr/>
          <p:nvPr/>
        </p:nvPicPr>
        <p:blipFill>
          <a:blip r:embed="rId2"/>
          <a:stretch/>
        </p:blipFill>
        <p:spPr>
          <a:xfrm>
            <a:off x="3343320" y="901800"/>
            <a:ext cx="2457360" cy="561960"/>
          </a:xfrm>
          <a:prstGeom prst="rect">
            <a:avLst/>
          </a:prstGeom>
          <a:ln w="0">
            <a:noFill/>
          </a:ln>
        </p:spPr>
      </p:pic>
      <p:pic>
        <p:nvPicPr>
          <p:cNvPr id="1029" name="图片 2" descr=""/>
          <p:cNvPicPr/>
          <p:nvPr/>
        </p:nvPicPr>
        <p:blipFill>
          <a:blip r:embed="rId3"/>
          <a:stretch/>
        </p:blipFill>
        <p:spPr>
          <a:xfrm>
            <a:off x="476280" y="2171880"/>
            <a:ext cx="8191440" cy="2514600"/>
          </a:xfrm>
          <a:prstGeom prst="rect">
            <a:avLst/>
          </a:prstGeom>
          <a:ln w="0">
            <a:noFill/>
          </a:ln>
        </p:spPr>
      </p:pic>
      <p:pic>
        <p:nvPicPr>
          <p:cNvPr id="1030" name="图片 10" descr=""/>
          <p:cNvPicPr/>
          <p:nvPr/>
        </p:nvPicPr>
        <p:blipFill>
          <a:blip r:embed="rId4"/>
          <a:stretch/>
        </p:blipFill>
        <p:spPr>
          <a:xfrm>
            <a:off x="1036800" y="25988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31" name="图片 1" descr=""/>
          <p:cNvPicPr/>
          <p:nvPr/>
        </p:nvPicPr>
        <p:blipFill>
          <a:blip r:embed="rId5"/>
          <a:stretch/>
        </p:blipFill>
        <p:spPr>
          <a:xfrm>
            <a:off x="1036800" y="2959200"/>
            <a:ext cx="485640" cy="361800"/>
          </a:xfrm>
          <a:prstGeom prst="rect">
            <a:avLst/>
          </a:prstGeom>
          <a:ln w="0">
            <a:noFill/>
          </a:ln>
        </p:spPr>
      </p:pic>
      <p:pic>
        <p:nvPicPr>
          <p:cNvPr id="1032" name="图片 2" descr=""/>
          <p:cNvPicPr/>
          <p:nvPr/>
        </p:nvPicPr>
        <p:blipFill>
          <a:blip r:embed="rId6"/>
          <a:stretch/>
        </p:blipFill>
        <p:spPr>
          <a:xfrm>
            <a:off x="1036800" y="343692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33" name="图片 3" descr=""/>
          <p:cNvPicPr/>
          <p:nvPr/>
        </p:nvPicPr>
        <p:blipFill>
          <a:blip r:embed="rId7"/>
          <a:stretch/>
        </p:blipFill>
        <p:spPr>
          <a:xfrm>
            <a:off x="1036800" y="379728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34" name="图片 4" descr=""/>
          <p:cNvPicPr/>
          <p:nvPr/>
        </p:nvPicPr>
        <p:blipFill>
          <a:blip r:embed="rId8"/>
          <a:stretch/>
        </p:blipFill>
        <p:spPr>
          <a:xfrm>
            <a:off x="1036800" y="4325760"/>
            <a:ext cx="485640" cy="3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6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7" name="图片 1" descr=""/>
          <p:cNvPicPr/>
          <p:nvPr/>
        </p:nvPicPr>
        <p:blipFill>
          <a:blip r:embed="rId1"/>
          <a:stretch/>
        </p:blipFill>
        <p:spPr>
          <a:xfrm>
            <a:off x="142920" y="1266840"/>
            <a:ext cx="8858160" cy="2028960"/>
          </a:xfrm>
          <a:prstGeom prst="rect">
            <a:avLst/>
          </a:prstGeom>
          <a:ln w="0">
            <a:noFill/>
          </a:ln>
        </p:spPr>
      </p:pic>
      <p:pic>
        <p:nvPicPr>
          <p:cNvPr id="1038" name="图片 2" descr=""/>
          <p:cNvPicPr/>
          <p:nvPr/>
        </p:nvPicPr>
        <p:blipFill>
          <a:blip r:embed="rId2"/>
          <a:stretch/>
        </p:blipFill>
        <p:spPr>
          <a:xfrm>
            <a:off x="142920" y="3668760"/>
            <a:ext cx="8905680" cy="200988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10" descr=""/>
          <p:cNvPicPr/>
          <p:nvPr/>
        </p:nvPicPr>
        <p:blipFill>
          <a:blip r:embed="rId3"/>
          <a:stretch/>
        </p:blipFill>
        <p:spPr>
          <a:xfrm>
            <a:off x="2878200" y="29354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0" name="图片 1" descr=""/>
          <p:cNvPicPr/>
          <p:nvPr/>
        </p:nvPicPr>
        <p:blipFill>
          <a:blip r:embed="rId4"/>
          <a:stretch/>
        </p:blipFill>
        <p:spPr>
          <a:xfrm>
            <a:off x="6222960" y="29354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1" name="图片 2" descr=""/>
          <p:cNvPicPr/>
          <p:nvPr/>
        </p:nvPicPr>
        <p:blipFill>
          <a:blip r:embed="rId5"/>
          <a:stretch/>
        </p:blipFill>
        <p:spPr>
          <a:xfrm>
            <a:off x="8015400" y="29480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2" name="图片 3" descr=""/>
          <p:cNvPicPr/>
          <p:nvPr/>
        </p:nvPicPr>
        <p:blipFill>
          <a:blip r:embed="rId6"/>
          <a:stretch/>
        </p:blipFill>
        <p:spPr>
          <a:xfrm>
            <a:off x="4597560" y="29354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3" name="图片 4" descr=""/>
          <p:cNvPicPr/>
          <p:nvPr/>
        </p:nvPicPr>
        <p:blipFill>
          <a:blip r:embed="rId7"/>
          <a:stretch/>
        </p:blipFill>
        <p:spPr>
          <a:xfrm>
            <a:off x="1193760" y="29480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4" name="图片 5" descr=""/>
          <p:cNvPicPr/>
          <p:nvPr/>
        </p:nvPicPr>
        <p:blipFill>
          <a:blip r:embed="rId8"/>
          <a:stretch/>
        </p:blipFill>
        <p:spPr>
          <a:xfrm>
            <a:off x="1193760" y="531828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5" name="图片 6" descr=""/>
          <p:cNvPicPr/>
          <p:nvPr/>
        </p:nvPicPr>
        <p:blipFill>
          <a:blip r:embed="rId9"/>
          <a:stretch/>
        </p:blipFill>
        <p:spPr>
          <a:xfrm>
            <a:off x="2986200" y="531828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6" name="图片 7" descr=""/>
          <p:cNvPicPr/>
          <p:nvPr/>
        </p:nvPicPr>
        <p:blipFill>
          <a:blip r:embed="rId10"/>
          <a:stretch/>
        </p:blipFill>
        <p:spPr>
          <a:xfrm>
            <a:off x="4767120" y="5318280"/>
            <a:ext cx="486000" cy="360360"/>
          </a:xfrm>
          <a:prstGeom prst="rect">
            <a:avLst/>
          </a:prstGeom>
          <a:ln w="0">
            <a:noFill/>
          </a:ln>
        </p:spPr>
      </p:pic>
      <p:pic>
        <p:nvPicPr>
          <p:cNvPr id="1047" name="图片 8" descr=""/>
          <p:cNvPicPr/>
          <p:nvPr/>
        </p:nvPicPr>
        <p:blipFill>
          <a:blip r:embed="rId11"/>
          <a:stretch/>
        </p:blipFill>
        <p:spPr>
          <a:xfrm>
            <a:off x="6391440" y="531828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48" name="图片 9" descr=""/>
          <p:cNvPicPr/>
          <p:nvPr/>
        </p:nvPicPr>
        <p:blipFill>
          <a:blip r:embed="rId12"/>
          <a:stretch/>
        </p:blipFill>
        <p:spPr>
          <a:xfrm>
            <a:off x="8220240" y="5318280"/>
            <a:ext cx="48564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8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1" name="图片 1" descr=""/>
          <p:cNvPicPr/>
          <p:nvPr/>
        </p:nvPicPr>
        <p:blipFill>
          <a:blip r:embed="rId1"/>
          <a:stretch/>
        </p:blipFill>
        <p:spPr>
          <a:xfrm>
            <a:off x="380880" y="1819440"/>
            <a:ext cx="8382240" cy="3219120"/>
          </a:xfrm>
          <a:prstGeom prst="rect">
            <a:avLst/>
          </a:prstGeom>
          <a:ln w="0">
            <a:noFill/>
          </a:ln>
        </p:spPr>
      </p:pic>
      <p:pic>
        <p:nvPicPr>
          <p:cNvPr id="1052" name="图片 10" descr=""/>
          <p:cNvPicPr/>
          <p:nvPr/>
        </p:nvPicPr>
        <p:blipFill>
          <a:blip r:embed="rId2"/>
          <a:stretch/>
        </p:blipFill>
        <p:spPr>
          <a:xfrm>
            <a:off x="917640" y="2370240"/>
            <a:ext cx="485640" cy="360360"/>
          </a:xfrm>
          <a:prstGeom prst="rect">
            <a:avLst/>
          </a:prstGeom>
          <a:ln w="0">
            <a:noFill/>
          </a:ln>
        </p:spPr>
      </p:pic>
      <p:pic>
        <p:nvPicPr>
          <p:cNvPr id="1053" name="图片 1" descr=""/>
          <p:cNvPicPr/>
          <p:nvPr/>
        </p:nvPicPr>
        <p:blipFill>
          <a:blip r:embed="rId3"/>
          <a:stretch/>
        </p:blipFill>
        <p:spPr>
          <a:xfrm>
            <a:off x="917640" y="3019320"/>
            <a:ext cx="485640" cy="362160"/>
          </a:xfrm>
          <a:prstGeom prst="rect">
            <a:avLst/>
          </a:prstGeom>
          <a:ln w="0">
            <a:noFill/>
          </a:ln>
        </p:spPr>
      </p:pic>
      <p:pic>
        <p:nvPicPr>
          <p:cNvPr id="1054" name="图片 2" descr=""/>
          <p:cNvPicPr/>
          <p:nvPr/>
        </p:nvPicPr>
        <p:blipFill>
          <a:blip r:embed="rId4"/>
          <a:stretch/>
        </p:blipFill>
        <p:spPr>
          <a:xfrm>
            <a:off x="1000080" y="3573360"/>
            <a:ext cx="486000" cy="360360"/>
          </a:xfrm>
          <a:prstGeom prst="rect">
            <a:avLst/>
          </a:prstGeom>
          <a:ln w="0">
            <a:noFill/>
          </a:ln>
        </p:spPr>
      </p:pic>
      <p:pic>
        <p:nvPicPr>
          <p:cNvPr id="1055" name="图片 3" descr=""/>
          <p:cNvPicPr/>
          <p:nvPr/>
        </p:nvPicPr>
        <p:blipFill>
          <a:blip r:embed="rId5"/>
          <a:stretch/>
        </p:blipFill>
        <p:spPr>
          <a:xfrm>
            <a:off x="1000080" y="4151160"/>
            <a:ext cx="486000" cy="360360"/>
          </a:xfrm>
          <a:prstGeom prst="rect">
            <a:avLst/>
          </a:prstGeom>
          <a:ln w="0">
            <a:noFill/>
          </a:ln>
        </p:spPr>
      </p:pic>
      <p:pic>
        <p:nvPicPr>
          <p:cNvPr id="1056" name="图片 4" descr=""/>
          <p:cNvPicPr/>
          <p:nvPr/>
        </p:nvPicPr>
        <p:blipFill>
          <a:blip r:embed="rId6"/>
          <a:stretch/>
        </p:blipFill>
        <p:spPr>
          <a:xfrm>
            <a:off x="1000080" y="4678200"/>
            <a:ext cx="4860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5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0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5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5" dur="5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9" name="图片 1" descr=""/>
          <p:cNvPicPr/>
          <p:nvPr/>
        </p:nvPicPr>
        <p:blipFill>
          <a:blip r:embed="rId1"/>
          <a:stretch/>
        </p:blipFill>
        <p:spPr>
          <a:xfrm>
            <a:off x="71280" y="1114560"/>
            <a:ext cx="8999640" cy="4628880"/>
          </a:xfrm>
          <a:prstGeom prst="rect">
            <a:avLst/>
          </a:prstGeom>
          <a:ln w="0">
            <a:noFill/>
          </a:ln>
        </p:spPr>
      </p:pic>
      <p:pic>
        <p:nvPicPr>
          <p:cNvPr id="1060" name="图片 28675" descr=""/>
          <p:cNvPicPr/>
          <p:nvPr/>
        </p:nvPicPr>
        <p:blipFill>
          <a:blip r:embed="rId2"/>
          <a:stretch/>
        </p:blipFill>
        <p:spPr>
          <a:xfrm>
            <a:off x="968400" y="292248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1" name="图片 1" descr=""/>
          <p:cNvPicPr/>
          <p:nvPr/>
        </p:nvPicPr>
        <p:blipFill>
          <a:blip r:embed="rId3"/>
          <a:stretch/>
        </p:blipFill>
        <p:spPr>
          <a:xfrm>
            <a:off x="2959200" y="292248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2" name="图片 2" descr=""/>
          <p:cNvPicPr/>
          <p:nvPr/>
        </p:nvPicPr>
        <p:blipFill>
          <a:blip r:embed="rId4"/>
          <a:stretch/>
        </p:blipFill>
        <p:spPr>
          <a:xfrm>
            <a:off x="5486400" y="292248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3" name="图片 3" descr=""/>
          <p:cNvPicPr/>
          <p:nvPr/>
        </p:nvPicPr>
        <p:blipFill>
          <a:blip r:embed="rId5"/>
          <a:stretch/>
        </p:blipFill>
        <p:spPr>
          <a:xfrm>
            <a:off x="7483320" y="292248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4" descr=""/>
          <p:cNvPicPr/>
          <p:nvPr/>
        </p:nvPicPr>
        <p:blipFill>
          <a:blip r:embed="rId6"/>
          <a:stretch/>
        </p:blipFill>
        <p:spPr>
          <a:xfrm>
            <a:off x="968400" y="386712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5" descr=""/>
          <p:cNvPicPr/>
          <p:nvPr/>
        </p:nvPicPr>
        <p:blipFill>
          <a:blip r:embed="rId7"/>
          <a:stretch/>
        </p:blipFill>
        <p:spPr>
          <a:xfrm>
            <a:off x="2959200" y="386712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6" name="图片 6" descr=""/>
          <p:cNvPicPr/>
          <p:nvPr/>
        </p:nvPicPr>
        <p:blipFill>
          <a:blip r:embed="rId8"/>
          <a:stretch/>
        </p:blipFill>
        <p:spPr>
          <a:xfrm>
            <a:off x="5486400" y="386712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7" name="图片 7" descr=""/>
          <p:cNvPicPr/>
          <p:nvPr/>
        </p:nvPicPr>
        <p:blipFill>
          <a:blip r:embed="rId9"/>
          <a:stretch/>
        </p:blipFill>
        <p:spPr>
          <a:xfrm>
            <a:off x="7483320" y="386712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8" name="图片 8" descr=""/>
          <p:cNvPicPr/>
          <p:nvPr/>
        </p:nvPicPr>
        <p:blipFill>
          <a:blip r:embed="rId10"/>
          <a:stretch/>
        </p:blipFill>
        <p:spPr>
          <a:xfrm>
            <a:off x="968400" y="4960800"/>
            <a:ext cx="1224000" cy="660600"/>
          </a:xfrm>
          <a:prstGeom prst="rect">
            <a:avLst/>
          </a:prstGeom>
          <a:ln w="0">
            <a:noFill/>
          </a:ln>
        </p:spPr>
      </p:pic>
      <p:pic>
        <p:nvPicPr>
          <p:cNvPr id="1069" name="图片 9" descr=""/>
          <p:cNvPicPr/>
          <p:nvPr/>
        </p:nvPicPr>
        <p:blipFill>
          <a:blip r:embed="rId11"/>
          <a:stretch/>
        </p:blipFill>
        <p:spPr>
          <a:xfrm>
            <a:off x="2959200" y="4960800"/>
            <a:ext cx="122400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" dur="5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27" dur="5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2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37" dur="5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2" dur="5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47" dur="5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2" dur="5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7" dur="5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2" name="图片 1" descr=""/>
          <p:cNvPicPr/>
          <p:nvPr/>
        </p:nvPicPr>
        <p:blipFill>
          <a:blip r:embed="rId1"/>
          <a:stretch/>
        </p:blipFill>
        <p:spPr>
          <a:xfrm>
            <a:off x="676440" y="1919160"/>
            <a:ext cx="7791120" cy="3019680"/>
          </a:xfrm>
          <a:prstGeom prst="rect">
            <a:avLst/>
          </a:prstGeom>
          <a:ln w="0">
            <a:noFill/>
          </a:ln>
        </p:spPr>
      </p:pic>
      <p:pic>
        <p:nvPicPr>
          <p:cNvPr id="1073" name="图片 1" descr=""/>
          <p:cNvPicPr/>
          <p:nvPr/>
        </p:nvPicPr>
        <p:blipFill>
          <a:blip r:embed="rId2"/>
          <a:stretch/>
        </p:blipFill>
        <p:spPr>
          <a:xfrm>
            <a:off x="1257480" y="2879640"/>
            <a:ext cx="552240" cy="399960"/>
          </a:xfrm>
          <a:prstGeom prst="rect">
            <a:avLst/>
          </a:prstGeom>
          <a:ln w="0">
            <a:noFill/>
          </a:ln>
        </p:spPr>
      </p:pic>
      <p:pic>
        <p:nvPicPr>
          <p:cNvPr id="1074" name="图片 2" descr=""/>
          <p:cNvPicPr/>
          <p:nvPr/>
        </p:nvPicPr>
        <p:blipFill>
          <a:blip r:embed="rId3"/>
          <a:stretch/>
        </p:blipFill>
        <p:spPr>
          <a:xfrm>
            <a:off x="1257480" y="4137120"/>
            <a:ext cx="552240" cy="39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4" dur="5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69" dur="5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77" name="图片 1" descr=""/>
          <p:cNvPicPr/>
          <p:nvPr/>
        </p:nvPicPr>
        <p:blipFill>
          <a:blip r:embed="rId1"/>
          <a:stretch/>
        </p:blipFill>
        <p:spPr>
          <a:xfrm>
            <a:off x="743040" y="1604880"/>
            <a:ext cx="7657920" cy="3648240"/>
          </a:xfrm>
          <a:prstGeom prst="rect">
            <a:avLst/>
          </a:prstGeom>
          <a:ln w="0">
            <a:noFill/>
          </a:ln>
        </p:spPr>
      </p:pic>
      <p:pic>
        <p:nvPicPr>
          <p:cNvPr id="1078" name="图片 1" descr=""/>
          <p:cNvPicPr/>
          <p:nvPr/>
        </p:nvPicPr>
        <p:blipFill>
          <a:blip r:embed="rId2"/>
          <a:stretch/>
        </p:blipFill>
        <p:spPr>
          <a:xfrm>
            <a:off x="1058760" y="2030400"/>
            <a:ext cx="446040" cy="363600"/>
          </a:xfrm>
          <a:prstGeom prst="rect">
            <a:avLst/>
          </a:prstGeom>
          <a:ln w="0">
            <a:noFill/>
          </a:ln>
        </p:spPr>
      </p:pic>
      <p:pic>
        <p:nvPicPr>
          <p:cNvPr id="1079" name="图片 2" descr=""/>
          <p:cNvPicPr/>
          <p:nvPr/>
        </p:nvPicPr>
        <p:blipFill>
          <a:blip r:embed="rId3"/>
          <a:stretch/>
        </p:blipFill>
        <p:spPr>
          <a:xfrm>
            <a:off x="1058760" y="3247920"/>
            <a:ext cx="446040" cy="363600"/>
          </a:xfrm>
          <a:prstGeom prst="rect">
            <a:avLst/>
          </a:prstGeom>
          <a:ln w="0">
            <a:noFill/>
          </a:ln>
        </p:spPr>
      </p:pic>
      <p:pic>
        <p:nvPicPr>
          <p:cNvPr id="1080" name="图片 3" descr=""/>
          <p:cNvPicPr/>
          <p:nvPr/>
        </p:nvPicPr>
        <p:blipFill>
          <a:blip r:embed="rId4"/>
          <a:stretch/>
        </p:blipFill>
        <p:spPr>
          <a:xfrm>
            <a:off x="1058760" y="4578480"/>
            <a:ext cx="446040" cy="36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76" dur="5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1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6" dur="5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3" name="图片 1" descr=""/>
          <p:cNvPicPr/>
          <p:nvPr/>
        </p:nvPicPr>
        <p:blipFill>
          <a:blip r:embed="rId1"/>
          <a:stretch/>
        </p:blipFill>
        <p:spPr>
          <a:xfrm>
            <a:off x="262080" y="2200320"/>
            <a:ext cx="8618400" cy="2457360"/>
          </a:xfrm>
          <a:prstGeom prst="rect">
            <a:avLst/>
          </a:prstGeom>
          <a:ln w="0">
            <a:noFill/>
          </a:ln>
        </p:spPr>
      </p:pic>
      <p:pic>
        <p:nvPicPr>
          <p:cNvPr id="1084" name="图片 1" descr=""/>
          <p:cNvPicPr/>
          <p:nvPr/>
        </p:nvPicPr>
        <p:blipFill>
          <a:blip r:embed="rId2"/>
          <a:stretch/>
        </p:blipFill>
        <p:spPr>
          <a:xfrm>
            <a:off x="2201760" y="4195800"/>
            <a:ext cx="890640" cy="36360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2" descr=""/>
          <p:cNvPicPr/>
          <p:nvPr/>
        </p:nvPicPr>
        <p:blipFill>
          <a:blip r:embed="rId3"/>
          <a:stretch/>
        </p:blipFill>
        <p:spPr>
          <a:xfrm>
            <a:off x="4764240" y="4195800"/>
            <a:ext cx="1325520" cy="36360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4" descr=""/>
          <p:cNvPicPr/>
          <p:nvPr/>
        </p:nvPicPr>
        <p:blipFill>
          <a:blip r:embed="rId4"/>
          <a:stretch/>
        </p:blipFill>
        <p:spPr>
          <a:xfrm>
            <a:off x="7664400" y="4195800"/>
            <a:ext cx="107172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3" dur="5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8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0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89" name="图片 1" descr=""/>
          <p:cNvPicPr/>
          <p:nvPr/>
        </p:nvPicPr>
        <p:blipFill>
          <a:blip r:embed="rId1"/>
          <a:stretch/>
        </p:blipFill>
        <p:spPr>
          <a:xfrm>
            <a:off x="709560" y="1042920"/>
            <a:ext cx="7723080" cy="4772160"/>
          </a:xfrm>
          <a:prstGeom prst="rect">
            <a:avLst/>
          </a:prstGeom>
          <a:ln w="0">
            <a:noFill/>
          </a:ln>
        </p:spPr>
      </p:pic>
      <p:pic>
        <p:nvPicPr>
          <p:cNvPr id="1090" name="图片 1" descr=""/>
          <p:cNvPicPr/>
          <p:nvPr/>
        </p:nvPicPr>
        <p:blipFill>
          <a:blip r:embed="rId2"/>
          <a:stretch/>
        </p:blipFill>
        <p:spPr>
          <a:xfrm>
            <a:off x="1314360" y="1600200"/>
            <a:ext cx="447840" cy="36360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3" descr=""/>
          <p:cNvPicPr/>
          <p:nvPr/>
        </p:nvPicPr>
        <p:blipFill>
          <a:blip r:embed="rId3"/>
          <a:stretch/>
        </p:blipFill>
        <p:spPr>
          <a:xfrm>
            <a:off x="1314360" y="3321000"/>
            <a:ext cx="447840" cy="36504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4" descr=""/>
          <p:cNvPicPr/>
          <p:nvPr/>
        </p:nvPicPr>
        <p:blipFill>
          <a:blip r:embed="rId4"/>
          <a:stretch/>
        </p:blipFill>
        <p:spPr>
          <a:xfrm>
            <a:off x="1314360" y="4986360"/>
            <a:ext cx="447840" cy="3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0" dur="500"/>
                                        <p:tgtEl>
                                          <p:spTgt spid="10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15" dur="5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22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3:20:35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